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0854-3C4E-46C3-B5D6-3F7216FA8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s in red for new since May 2006.  Be sure to demo all of the things in RED when you login later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E2A-CB25-4186-8441-6DF4C133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D3D-9E43-4D7D-890B-E13168E4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58D-BE65-494D-918F-3F2DF545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0FE-C018-4E17-81B4-D2CDA038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4B1-3B8F-4D5A-AC53-D07DAC27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27C-75C6-46C8-B778-0D5A0046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748-6374-4537-BD39-5AFDABCA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038-7786-410B-9FA4-3F293083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E15-8A02-4784-862F-A884DD0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C22-823D-4B13-B9BF-2D9542A4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F08-F2B6-48C6-9388-E322E8C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E26-BC6A-4695-8709-CE68ECB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05C-87B5-4161-94E6-4E91FB181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eal.azed.gov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for Creating an IDEAL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9718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 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ideal.az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link on the bottom right-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ctivat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click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Sign 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llow the directions on the next screen and complete the information required once you choose standard or guest ac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unable to create an account contact the help desk at 480- 965-9411.  They will be happy to help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48520" y="4572000"/>
            <a:ext cx="2743200" cy="1905120"/>
          </a:xfrm>
          <a:prstGeom prst="ellipse">
            <a:avLst/>
          </a:prstGeom>
          <a:noFill/>
          <a:ln w="57240">
            <a:solidFill>
              <a:srgbClr val="d6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7400" y="3048120"/>
            <a:ext cx="1600200" cy="914400"/>
          </a:xfrm>
          <a:prstGeom prst="ellipse">
            <a:avLst/>
          </a:prstGeom>
          <a:noFill/>
          <a:ln w="57240">
            <a:solidFill>
              <a:srgbClr val="d6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21:32:19Z</dcterms:created>
  <dc:creator>lumma000</dc:creator>
  <dc:description/>
  <dc:language>en-US</dc:language>
  <cp:lastModifiedBy>lumma000</cp:lastModifiedBy>
  <dcterms:modified xsi:type="dcterms:W3CDTF">2008-03-28T21:33:13Z</dcterms:modified>
  <cp:revision>2</cp:revision>
  <dc:subject/>
  <dc:title>Directions for Creating an IDEAL Account</dc:title>
</cp:coreProperties>
</file>